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A868-E644-446E-A635-A6D5DAC64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9531-9B6D-455D-98CB-01739BA20D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652E-0F0C-44F8-8EBD-C7EA6FFD76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E004-A00E-4C61-8790-EBDC455A5A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16C9-6197-4359-AD9B-DE2F05AF6B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87BE-E777-4109-BB70-CF8B617B18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A26C-6685-4DC4-964C-301AF59257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5A7C-9150-4D07-9AD7-5ED0745CBC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4798-AE8C-4595-833B-B25CFCDA08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B95E-E82B-4AB1-9FD3-21175C9469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A803-8C60-4A89-ABDA-86E749D3BB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F4B8-C37F-4BC5-A593-C4A1D3867B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760-4BA2-4A70-8B69-30BE0224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EA4-D652-4BCF-A6AF-620433A7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BA1-3D93-4B20-83E5-75C2F88B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007-0602-4089-8904-0EB5CE05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1D89-6F8F-4E42-A4BC-D6B0E664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39EE-BE63-41E2-94B2-B7A58477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FB48-BF62-475E-B909-50B1226A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A9C9-2762-4EB5-98A7-A42302F5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C7D7-4D38-4230-99B1-AA54B977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C3EB-C4ED-49E6-8698-9374A149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2688-D4F9-4500-A3E9-7D12268C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B68-0A0F-4897-9AD0-1D7A12A8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ABF9-8BA9-4B9F-B6B9-0FB6B1E8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BDB5-91FA-4148-B85B-23DDEB38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9F09-D77D-4F32-9804-2F7AA4FC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F47B-8F17-456D-940C-9D2D1AE2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9FB6-F1E1-49B9-9601-760B7173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741-C6B7-4E46-8A28-01BC67E2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F3C-75A0-4460-BFB4-2450D2F0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AF2-E472-4BC6-B0D4-047C3E47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350-1DBC-4FB2-8892-62EF1A2D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DE8-54AE-484B-9E76-49EA3337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071-B7EA-4E7B-AA58-D444A53C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049-ADBD-4359-B14F-FA4CE9A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8E4E-FC04-4287-BD00-390389849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2413-B962-4B58-9FDE-5DDBC8743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EARNING STYLES &amp; BILINGUAL PROGRAM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Structured English Immersion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C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ELLs mostly taught in linguistic manner (Pro &amp; C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anguage that is highly methodic is ineff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Culturally acceptable element missing from most instructional methods: kits, folders, books, 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Many children who possess other intelligences label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earning disab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ADD (Attention Deficit Disord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Underachiev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Strategies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9140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Multi-media can accomplish what teacher cannot, (address all learning sty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earning style: the natural, habitual, preferred way(s) for an individual to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inguistic &amp; Logical intellig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inguistic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word smart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ogical-mathematical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number/reasoning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Spatial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picture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Bodily-Kinesthetic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body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Musical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music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Interpersonal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people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Intrapersonal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self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Naturalist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nature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earning styles heavily influenced by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Several dominant learning styles present in a classroom, 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R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 Stat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Modifying a bilingual program to the compatible learning styles of ten 3</a:t>
            </a:r>
            <a:r>
              <a:rPr b="0" lang="en-US" sz="3200" spc="-1" strike="noStrike" baseline="30000">
                <a:solidFill>
                  <a:srgbClr val="ffffb7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  graders in P.S. X in Queens, NY,  over a grading period, will measurably increase language proficiency in Reading &amp;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b7"/>
                </a:solidFill>
                <a:uFillTx/>
                <a:latin typeface="Arial Black"/>
              </a:rPr>
              <a:t>Bilingual Education 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06632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N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b7"/>
                </a:solidFill>
                <a:latin typeface="Arial"/>
              </a:rPr>
              <a:t>Armstrong, Th., 2000; Jones, M., 2006; Porter, R. 1998; </a:t>
            </a:r>
            <a:r>
              <a:rPr b="0" lang="en-US" sz="2200" spc="-1" strike="noStrike">
                <a:solidFill>
                  <a:srgbClr val="ffffb7"/>
                </a:solidFill>
                <a:latin typeface="Arial"/>
              </a:rPr>
              <a:t>Duigan, P. (n.d.); </a:t>
            </a:r>
            <a:r>
              <a:rPr b="0" i="1" lang="en-US" sz="2200" spc="-1" strike="noStrike">
                <a:solidFill>
                  <a:srgbClr val="ffffb7"/>
                </a:solidFill>
                <a:latin typeface="Arial"/>
              </a:rPr>
              <a:t>Fillmore, L. (2000); Gallagher, J. 1998; Klein, A., 2008; Mays, L., 2008; Porter, R. 1998; Keng-Soon, S. &amp; Yeok-Hwa, N., 1998; Milian, M. &amp; Pearson, V., 2005; Lombardi, J., 2008;</a:t>
            </a:r>
            <a:r>
              <a:rPr b="0" lang="en-US" sz="2200" spc="-1" strike="noStrike">
                <a:solidFill>
                  <a:srgbClr val="ffffb7"/>
                </a:solidFill>
                <a:latin typeface="Arial"/>
              </a:rPr>
              <a:t>Cofresi, N., &amp; Gorman, A., 2004; Fillmore, L., 2000; Gallo, Y., Garcia, M., Pinuelas, L., Youngs, I., 2008; Gallagher, J., 199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b7"/>
                </a:solidFill>
                <a:uFillTx/>
                <a:latin typeface="Arial"/>
              </a:rPr>
              <a:t>PROS</a:t>
            </a:r>
            <a:r>
              <a:rPr b="0" i="1" lang="en-US" sz="2200" spc="-1" strike="noStrike">
                <a:solidFill>
                  <a:srgbClr val="ffffb7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b7"/>
                </a:solidFill>
                <a:latin typeface="Arial"/>
              </a:rPr>
              <a:t>Hadi-Tabassum, 1999; Christian, D., 1996; Genesee, F., 2000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b7"/>
                </a:solidFill>
                <a:latin typeface="Arial"/>
              </a:rPr>
              <a:t>Cummins, J., (n.d.); Krashen, S., 2003; Sherwood, E., 2007; “Linguistic Diversity and Classroom Management”, 2003; </a:t>
            </a:r>
            <a:r>
              <a:rPr b="0" lang="en-US" sz="2200" spc="-1" strike="noStrike">
                <a:solidFill>
                  <a:srgbClr val="ffffb7"/>
                </a:solidFill>
                <a:latin typeface="Arial"/>
              </a:rPr>
              <a:t>Cummins, J., 2000</a:t>
            </a:r>
            <a:r>
              <a:rPr b="0" i="1" lang="en-US" sz="22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Bilingual education or English instruction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solidFill>
            <a:srgbClr val="161616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b7"/>
                </a:solidFill>
                <a:uFillTx/>
                <a:latin typeface="Arial"/>
              </a:rPr>
              <a:t>http://www.youtube.com/watch?v=VwqhL1Hsg7E&amp;feature=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Firefighter boss required to speak Spanish or get demote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 </a:t>
            </a:r>
            <a:r>
              <a:rPr b="0" lang="en-US" sz="2000" spc="-1" strike="noStrike" u="sng">
                <a:solidFill>
                  <a:srgbClr val="ffffb7"/>
                </a:solidFill>
                <a:uFillTx/>
                <a:latin typeface="Arial"/>
              </a:rPr>
              <a:t>http://www.youtube.com/watch?v=V_dMr5haTbM&amp;feature=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Oregon seeking official English legislation; 28 states agree pro official English. 85% of nations have an official government. language; 70% of Americans are pro making English official language of federal government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 </a:t>
            </a:r>
            <a:r>
              <a:rPr b="0" lang="en-US" sz="2000" spc="-1" strike="noStrike" u="sng">
                <a:solidFill>
                  <a:srgbClr val="ffffb7"/>
                </a:solidFill>
                <a:uFillTx/>
                <a:latin typeface="Arial"/>
              </a:rPr>
              <a:t>http://www.youtube.com/watch?v=mBiZtU4FLEQ&amp;feature=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Case against bilingual edu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 </a:t>
            </a:r>
            <a:r>
              <a:rPr b="0" lang="en-US" sz="2000" spc="-1" strike="noStrike" u="sng">
                <a:solidFill>
                  <a:srgbClr val="ffffb7"/>
                </a:solidFill>
                <a:uFillTx/>
                <a:latin typeface="Arial"/>
              </a:rPr>
              <a:t>http://www.youtube.com/watch?v=83THWaW82XY&amp;feature=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Standardized tests in Spanish versus English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Method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nt letters to administrators, (principal, assistant princip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consent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 to student explaining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07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Adams, M., Jones, K., M. (2006). Unmasking the Myths of Structured Englis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Immersion: Why We Still Need Bilingual Educators, Native Language Instruction, and Incorporation of Home Culture. Radical Teacher, 75, 16-2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Armstrong, Th. ((2000). Multiple Intelligences.  Retrieved from: www.ThomasArmstrong.c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b7"/>
                </a:solidFill>
                <a:latin typeface="Arial"/>
                <a:ea typeface="新細明體"/>
              </a:rPr>
              <a:t>Chamot, A., &amp; El-Dinary, P. (1999).  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Children’s learning strategies in language </a:t>
            </a:r>
            <a:r>
              <a:rPr b="1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immersion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 classrooms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The Modern Language Journal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83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(3), 319-38. Retrieved April 20, 2010, from Education Full Text database.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Christian, D. (1996). Two-Way Immersion Education: Students Learning Through Tw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Languages.  The Modern Language Journal, 80, 66-7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Cofresi, N., &amp; Gorman, A. (2004). Testing and Assessment Issues With Spanish-English Bilingual Latinos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Journal of Counseling and Development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82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(1), 99-106.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Cummins, J. (2000). Bilingual Children’s Mother Tongue: Why Is It Important for Education?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007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Duigan, P. (n.d.). Bilingual Education; A Critique.  Retrieved from: http://www.hoover.org/publications/he/2896386.html?show=ess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Gallo, Y., Garcia, M., Pinuelas, L., Youngs, I. (2008).  Crisis in the Southwest.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Escamilla, K. (2006). Semilingualism Applied to the Literacy Behaviors of Spanish-Speaking Emerging Bilinguals: Bi-illiteracy or Emerging Biliteracy?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Teachers College Record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108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(11), 2329-53. Retrieved April 20, 2010,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Fillmore, L. (2000). Loss of family languages: should educators be concerned?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Theory into Practice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39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(4), 203-10.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Gallagher, J. (1998). Multiculturalism at a crossroads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Education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 Digest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63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(8), 23-8.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Genesee, F., Cloud. N.  (1998).  Multilingualism is basic.  Educational Leadership.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Hadi-Tabassum, S. (1999).  Assessing Students’ Attitudes &amp; Achievements in a Multicultural &amp; Multilingual Science Classroom.  Multicultural Education, no7 (2), 15-20. Retrieved from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http://www2.ed.gov/about/offices/list/ocr/ell/edlite-glossar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Keng-Soon, S, Yeok-Hwa, N.  (1998). Effective English as a Second Language Instruction With Interactive Multimedia: The MCALL Project.  Journal of Educational Multimedia and Hypermedia, no7(1), 71-8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Krashen, S. (2003). Why Bilingual Education? Retrieved from http://ericae.net/ericdb/ED403101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Linguistic Diversity and Classroom Management”, (2003). Theory into Practice no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Lonbardi, J. (2008). Beyond Learning Styles: Brain-Based Research and English Language Learners. The Clearing House, no81(5), 219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McGlinn, J., &amp; Parrish, A. (2002). Accelerating </a:t>
            </a:r>
            <a:r>
              <a:rPr b="1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ESL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 Students' Reading Progress With Accelerated Reader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Reading Horizons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42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(3), 175-89. Retrieved April 20, 2010, from Education Full Text datab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Milian, M., Pearson, V. (2005).  Students with Visual Impairments in a Dual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language Program: A Case Study. Journal of Visual Impairment &amp; Blindness, no99 (11), 715-20.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Porter, Pedalino, R. (1998). Twisted Tongues: The Failure of Bilingual Education. READ Institute. Retrieved from http://www.gwu.edu/~ccps/pop_billing.htm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Part IV: Glossary. Retrieved from http://www2.ed.gov/about/offices/list/ocr/ell/edlite-glossar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Serna, C. (2009). Autores Bilingües/Bilingual Authors: Writing within Dual Cultural and Linguistic Repertoires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Education (Chula Vista, Calif.)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130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(1), 78-95. Retrieved April 20, 2010,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Sherwood, E., 2007; Education in a Multicultural Society; Retrieved from: http://www.educationupdate.com/archives/2007/NOV/html/spot-profoefeli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Bodoni MT"/>
              </a:rPr>
              <a:t>INT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b7"/>
                </a:solidFill>
                <a:uFillTx/>
                <a:latin typeface="Arial"/>
              </a:rPr>
              <a:t>Table of 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Statement of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Review of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Statement of 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1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3808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b7"/>
                </a:solidFill>
                <a:uFillTx/>
                <a:latin typeface="Candara"/>
              </a:rPr>
              <a:t>Statement of the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Pedagogical success of the </a:t>
            </a:r>
            <a:r>
              <a:rPr b="1" lang="en-US" sz="3200" spc="-1" strike="noStrike">
                <a:solidFill>
                  <a:srgbClr val="ffffb7"/>
                </a:solidFill>
                <a:latin typeface="Candara"/>
              </a:rPr>
              <a:t>Dual-Language</a:t>
            </a: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 and </a:t>
            </a:r>
            <a:r>
              <a:rPr b="1" lang="en-US" sz="3200" spc="-1" strike="noStrike">
                <a:solidFill>
                  <a:srgbClr val="ffffb7"/>
                </a:solidFill>
                <a:latin typeface="Candara"/>
              </a:rPr>
              <a:t>Immersion</a:t>
            </a: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 bilingual programs is dependant upon how well the programs can be </a:t>
            </a:r>
            <a:r>
              <a:rPr b="0" i="1" lang="en-US" sz="3200" spc="-1" strike="noStrike">
                <a:solidFill>
                  <a:srgbClr val="ffffb7"/>
                </a:solidFill>
                <a:latin typeface="Candara"/>
              </a:rPr>
              <a:t>assimilated</a:t>
            </a: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 by the </a:t>
            </a:r>
            <a:r>
              <a:rPr b="0" i="1" lang="en-US" sz="3200" spc="-1" strike="noStrike">
                <a:solidFill>
                  <a:srgbClr val="ffffb7"/>
                </a:solidFill>
                <a:latin typeface="Candara"/>
              </a:rPr>
              <a:t>learner</a:t>
            </a: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Assimilation occurs via a student’s </a:t>
            </a:r>
            <a:r>
              <a:rPr b="0" i="1" lang="en-US" sz="3200" spc="-1" strike="noStrike">
                <a:solidFill>
                  <a:srgbClr val="ffffb7"/>
                </a:solidFill>
                <a:latin typeface="Candara"/>
              </a:rPr>
              <a:t>learning</a:t>
            </a: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 </a:t>
            </a:r>
            <a:r>
              <a:rPr b="0" i="1" lang="en-US" sz="3200" spc="-1" strike="noStrike">
                <a:solidFill>
                  <a:srgbClr val="ffffb7"/>
                </a:solidFill>
                <a:latin typeface="Candara"/>
              </a:rPr>
              <a:t>style</a:t>
            </a: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. How can D-L and Immersion be modified so that they appeal to all learner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This inquiry is significant, since student success- and conversely, failure- is dependant upon linking the correct style to compatible lear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Review of Literature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Bilingual Programs (Dual Language &amp; Immersion)- </a:t>
            </a:r>
            <a:r>
              <a:rPr b="1" i="1" lang="en-US" sz="40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CONS</a:t>
            </a: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The first duty of schools is to teach non-English speaking children English as quickly as possible, not to maintain the 327 native languages in public school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Despite 30 years and billions in federal subsidies, bilingual materials do not abound; Bilingual education segregates childre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Parents prefer ESL, and resist bilingual instructio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Knowledge of who one is and comes from, responsibility to self, family, community, cannot be taught at school- it is the job of par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Bilingual Programs- cons: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007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From 1952 to 1972 funding rose from $8.4 billion to $67.5 billion; educational employees tripled from 1,884,000 to 5,646,000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00000"/>
                </a:solidFill>
                <a:latin typeface="Arabic Typesetting"/>
                <a:ea typeface="Arabic Typesetting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If money alone could buy excellence, the United States should have entered a golden age of public instruction instead of seeing declining standards in many schools.”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Review of Literature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520" y="609480"/>
            <a:ext cx="8464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abic Typesetting"/>
                <a:ea typeface="Arabic Typesetting"/>
              </a:rPr>
              <a:t>Bilingual Programs- pros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nguage inextricably tied to identity and self worth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 global economy, L2, (non-native language) is less of an advantage and more of a necessit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ulticultural programs should seek to establish better connection with pare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ilingual programs not meant to last beyond three years even though acquisition of CALPS requires 6 year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b7"/>
                </a:solidFill>
                <a:latin typeface="Arial"/>
              </a:rPr>
              <a:t>High self-esteem &amp; positive attitude for other cult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Dual-Language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Pro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2001"/>
              </a:spcBef>
              <a:buClr>
                <a:srgbClr val="99ff66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Jim Cummins, University of Toronto:  “Developmental interdependence Hypothesis”; “Threshold Hypothes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ctr">
              <a:lnSpc>
                <a:spcPct val="100000"/>
              </a:lnSpc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Rationale</a:t>
            </a:r>
            <a:r>
              <a:rPr b="0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: </a:t>
            </a:r>
            <a:r>
              <a:rPr b="0" i="1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Second language acquisition is dependant on mastery of native language skills: First set of skills in L1 easily transferred to L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Dual-Language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C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Defies “time-on-task” princi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The more time spent on a subject, the more that subject will be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Contrary to research demonstrating that language is best acquired early on in lif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If student learning in L1 most of day for several years, illogical to conclude that will be fluent in L2 when they are o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Structured English Immersion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190512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Pro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Mainstream classro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Teachers specially trained in bilingual education or ESL tr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Visual aids highly recommend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Group/paired work highly recommend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Talking among classmates should not necessarily be seen as thr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39:49Z</dcterms:created>
  <dc:creator>ssgarcia</dc:creator>
  <dc:description/>
  <dc:language>en-US</dc:language>
  <cp:lastModifiedBy>Sara Garcia</cp:lastModifiedBy>
  <dcterms:modified xsi:type="dcterms:W3CDTF">2010-05-18T20:10:03Z</dcterms:modified>
  <cp:revision>16</cp:revision>
  <dc:subject/>
  <dc:title>TITL PAGE</dc:title>
</cp:coreProperties>
</file>